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1DA8-408B-4196-8159-503237DFC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5FB3-0AFA-4849-97C0-0E5A0A34A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5775-AA33-4F1C-B27D-EBFB96F7D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89A7-692A-46C3-8DC3-9AFD1A0D6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1640" y="449712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0A3E-E23C-4B20-8FCA-82A8B1E7B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BB65-4A65-4E3E-8A26-83015E6FE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EB62-1243-4218-A9CB-2A5B321DF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42760" y="4500720"/>
            <a:ext cx="561636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0B4A-D270-4930-B8AE-E39CB9A2A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DB5D-6E2B-4A2F-905A-4418431A4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D8C0-F399-41F6-8C94-F8FF6D042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816C-0142-46B5-9501-FABEB1B60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83D9-E055-47E5-AABE-0E076105C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15B-0AE2-419D-A4B8-C31323414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BB66-5E72-44DC-B05D-B565DD31C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11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F5EF-6CBF-4364-BD56-51D5896C6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13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C75D-C0CA-4D07-B746-F8AC47C36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E49E-111E-4D56-9088-7F49823A3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C96-5498-492F-B445-3569200D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75D-89A9-47F6-AA44-BA3714AD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139-2CB2-4D0F-9B0D-03D959C4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0CC-551F-4D0D-BA7C-8A0D4D72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AD2-43BF-438D-A2FB-F1F531B4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671-BD6C-44F9-8DCD-28E94E8B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1C2-698D-4F12-A877-91C867FF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1F1-A764-461C-9EC9-91ABC40C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AE18-1DB1-4917-913B-819DA078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CBD-CCB1-4608-867D-8F2CBB9D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413-DBBC-4B51-800D-EEAAEDF7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F97-2B4E-4357-BF02-47E2A76C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9D98-B085-4857-9792-FA9C8E9F9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  <a:ea typeface="Arial"/>
              </a:rPr>
              <a:t>Phonics and Word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Literary Links 2009-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3505320" y="3429000"/>
            <a:ext cx="2438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honics 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Model how to blend the individual sounds from left to right without stopping between the s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Follow “sounding out” with a fast pronunciation of the wo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6858000" y="4419720"/>
            <a:ext cx="1566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king Ana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Helps students remember words with sounds or spelling patterns they already know and apply this knowledge to read and spell unknow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hould be explicitly mode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6858000" y="4419720"/>
            <a:ext cx="1566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king Ana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each common spelling patt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each common syllable patt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Help students use structural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3505320" y="4648320"/>
            <a:ext cx="14904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est Your Knowledge</a:t>
            </a:r>
            <a:br>
              <a:rPr sz="4000"/>
            </a:b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ell how many syllables and which syllable type for each of these wor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b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a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jo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wre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ni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reind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tructural Analys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ompound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Base (or root)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nflectional e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Prefi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uffi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6019920" y="3549600"/>
            <a:ext cx="18698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Words that should be recognized immedi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ometimes referred to as sight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ncludes both regular and irregular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3505320" y="4114800"/>
            <a:ext cx="18698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4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honics 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Teaches children the relationship between the letters (graphemes) of written language and individual sounds (phonemes) of spoken languag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6934320" y="4648320"/>
            <a:ext cx="1515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honics 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Is important because it leads to an understanding of the alphabetic principle-the systematic and predicable relationships between lett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and spoken sound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7086600" y="4876920"/>
            <a:ext cx="1515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Effective Phonics 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yst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Prescribed sequence of letter-sound i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Letter sound correspondences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taught in iso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blended into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practiced in decodable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plic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Programs provide teachers with precise directions for the teaching of letter-sound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6934320" y="2895480"/>
            <a:ext cx="15159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ystematic and Explicit Phonics Instruc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gnificantly improves kindergarten and first-grade children’s word recognition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gnificantly improves children’s reading compreh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s effective for children from various social and economic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7238880" y="5029200"/>
            <a:ext cx="1185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ystematic and Explicit Phonics Instruc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s particularly beneficial for children who are having difficulty learning to read and who are at risk for developing future reading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s most effective when introduced ea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s not an entire reading program for beginning r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7162920" y="5029200"/>
            <a:ext cx="1185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lphabetic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each the letters of the alphab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each letter-sound correspond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6858000" y="4419720"/>
            <a:ext cx="1566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honics 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each more-frequently used letters and sounds before teaching those less frequently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Begin with letter-sound correspondences that can be combined to make words students can decode and under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ntroduce only a few letter-sound  correspondences at a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MKing\Local Settings\Temporary Internet Files\Content.IE5\OI0EW1SI\MPj04395230000[1].jpg"/>
          <p:cNvPicPr/>
          <p:nvPr/>
        </p:nvPicPr>
        <p:blipFill>
          <a:blip r:embed="rId1"/>
          <a:stretch/>
        </p:blipFill>
        <p:spPr>
          <a:xfrm>
            <a:off x="6858000" y="4419720"/>
            <a:ext cx="1566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5:19:07Z</dcterms:created>
  <dc:creator>ECSD</dc:creator>
  <dc:description/>
  <dc:language>en-US</dc:language>
  <cp:lastModifiedBy>ECSD</cp:lastModifiedBy>
  <dcterms:modified xsi:type="dcterms:W3CDTF">2010-04-16T17:24:50Z</dcterms:modified>
  <cp:revision>14</cp:revision>
  <dc:subject/>
  <dc:title>Phonics and Word Study</dc:title>
</cp:coreProperties>
</file>